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46711"/>
        <c:axId val="18591825"/>
      </c:barChart>
      <c:catAx>
        <c:axId val="34946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1825"/>
        <c:crosses val="autoZero"/>
        <c:auto val="1"/>
        <c:lblAlgn val="ctr"/>
        <c:lblOffset val="100"/>
        <c:noMultiLvlLbl val="0"/>
      </c:catAx>
      <c:valAx>
        <c:axId val="185918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46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EDA-7A6F-444B-B3D8-FB29A51D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E82-679E-4735-BEB7-B99205E8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D2B-623C-4510-A836-2BD4E888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7E1-9746-4B4C-9DB7-B78A2EF6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99B-9B76-42E5-A74B-5105DC41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089-A0EF-4B49-BA59-BF2B303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14A-81E0-47A7-8A93-12A2C883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C912-518C-4020-8B7E-56131DD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1A07-454D-4386-AF62-4173BA08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5D5-2A5C-4627-8929-EF16D822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259-6273-4D90-BE03-5235AC6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6FE-3477-4FBD-B54C-D8D1912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65BB8-6736-4E3B-9BA6-7C97F30455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