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96749"/>
        <c:axId val="71351594"/>
      </c:barChart>
      <c:catAx>
        <c:axId val="45196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51594"/>
        <c:crosses val="autoZero"/>
        <c:auto val="1"/>
        <c:lblAlgn val="ctr"/>
        <c:lblOffset val="100"/>
        <c:noMultiLvlLbl val="0"/>
      </c:catAx>
      <c:valAx>
        <c:axId val="71351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6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AF1-35C6-4AA3-9863-17919201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75B-2A75-4C3E-BA48-99033C75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442-81D0-43E3-8BB8-1DD54607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6F1-7A9D-4E00-AD25-01053ECE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347-39E5-4A9A-856B-A3212796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975-A22D-4374-B5C9-9065E332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E7F-D44D-4901-AF97-3B4379AC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974-0986-43EB-9046-6C501C20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1F4-5FE4-41A2-8BB3-65672E0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A49-097E-4980-9630-E2E0565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80A-945A-473D-8B10-92F032DB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28F-6B78-492A-92A1-CB09C08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B9384-073D-4E06-837E-2CDC3D8FA3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