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50818"/>
        <c:axId val="76650356"/>
      </c:barChart>
      <c:catAx>
        <c:axId val="10508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50356"/>
        <c:crosses val="autoZero"/>
        <c:auto val="1"/>
        <c:lblAlgn val="ctr"/>
        <c:lblOffset val="100"/>
        <c:noMultiLvlLbl val="0"/>
      </c:catAx>
      <c:valAx>
        <c:axId val="766503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08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E23E-A783-40EC-9F99-A05417BB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434E-8632-4859-BECB-26AEE083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9543-4EE3-4D67-94A8-B30ED9A3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2092-880C-4E9F-9CE5-5A3BA4AA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36A6-E70A-4A24-B30B-093C8D74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DDE1-3E7B-4210-BA02-94553288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07F8-8E0A-47DA-B879-39D9DA75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B509-6B33-4A44-9F0E-A265DF5D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0511-9F5E-4566-9551-E4A42AEF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436B-7616-4582-BE14-45E104A8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E227-B019-45A8-8A69-7CDAE457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72DA-50B2-4F67-ACDA-C833F39E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5F5BF-EC9F-4E45-BCDA-035D7E4C6A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