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29501"/>
        <c:axId val="38928824"/>
      </c:barChart>
      <c:catAx>
        <c:axId val="17729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28824"/>
        <c:crosses val="autoZero"/>
        <c:auto val="1"/>
        <c:lblAlgn val="ctr"/>
        <c:lblOffset val="100"/>
        <c:noMultiLvlLbl val="0"/>
      </c:catAx>
      <c:valAx>
        <c:axId val="38928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29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DD4-79A1-4522-A02E-3A824E72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9D0-CEE3-4040-BC73-07BA6C14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B06-B5DA-49A5-9FBC-4BF2755E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E7B-A405-4E78-8863-F2252645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651-70F0-41E4-BE18-5A5BF31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33B-336C-48A2-B17F-F49DF1E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FF8-F224-4592-8FB4-D4EDC395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73D-3CD7-42A2-9E92-0FD68689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EB2-7C2A-4C26-A38A-26B1E4C4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F7B-6BDF-4A5F-8ED2-79DC785D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8D8-30D4-4A90-8BF7-9B03BD5E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10B-44EC-4891-8605-B78CB3B9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9E4B1-0A67-4E6D-9497-135384EBA6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