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0484"/>
        <c:axId val="45820101"/>
      </c:barChart>
      <c:catAx>
        <c:axId val="3720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20101"/>
        <c:crosses val="autoZero"/>
        <c:auto val="1"/>
        <c:lblAlgn val="ctr"/>
        <c:lblOffset val="100"/>
        <c:noMultiLvlLbl val="0"/>
      </c:catAx>
      <c:valAx>
        <c:axId val="45820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0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06C-F551-44D8-8731-08B6CE8A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923-BACD-4124-B297-C5577856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E00-6AE9-4077-8549-A17AA5E6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AAC-6828-4D3B-B564-BCDE9C15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BC1-86E9-4111-9B11-4B3DDE8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844-491B-41A2-8307-90251DE8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434-71C0-4B90-BD81-813073BD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AEB-1ADD-42D0-8DB5-21365EB5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252-FA74-4D93-82CA-567AA871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2B9-D3E5-45EC-AFBF-F2D2B612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199-B73B-4579-902F-81749C49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C9F-EC67-46E0-8BF2-9FE7A4ED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30995-06A1-4C4E-A20A-BB88F00984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