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5429"/>
        <c:axId val="61975605"/>
      </c:barChart>
      <c:catAx>
        <c:axId val="5585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75605"/>
        <c:crosses val="autoZero"/>
        <c:auto val="1"/>
        <c:lblAlgn val="ctr"/>
        <c:lblOffset val="100"/>
        <c:noMultiLvlLbl val="0"/>
      </c:catAx>
      <c:valAx>
        <c:axId val="61975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D9D-7E00-4EAD-8813-07AC1763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45D-079E-4C28-93A1-730CFAD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F3E-F02A-4239-BE4E-538AC7CA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115-5105-417A-A476-D9DF4201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2D0-0DD2-4B82-9FA9-9359D97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E21-F528-4369-9508-278DE35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C3C-A5A8-4F97-8320-C832EB63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63C-0683-44D7-B5E3-828F28E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E61-0F10-4AD5-966B-EB4DD38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2A7-F9A2-4C0A-A224-BDF653B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4C3-6897-4171-99D1-DAA0955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659-AE39-46C8-B169-D35F553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58390-688F-4616-8AF0-DDEF89137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