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91536"/>
        <c:axId val="10072611"/>
      </c:barChart>
      <c:catAx>
        <c:axId val="68591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72611"/>
        <c:crosses val="autoZero"/>
        <c:auto val="1"/>
        <c:lblAlgn val="ctr"/>
        <c:lblOffset val="100"/>
        <c:noMultiLvlLbl val="0"/>
      </c:catAx>
      <c:valAx>
        <c:axId val="10072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91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9E2-C658-4796-A48C-4D42980C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543-DF1F-4124-8D5C-0A6AE98C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6FF-0AE0-4173-AD65-04A0C479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E39-269A-4B50-AE52-8985F3D4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F8E-4042-487D-BBE3-CC5DF9B9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F07-C783-4B0D-B0D7-6CBD21F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DE3-6F0D-4311-B8D6-D552C9CA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778-F0FE-47A5-97AA-FB01FCC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659-1953-408F-AC0D-9F0881CE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95B-131B-4B31-9F72-3F037031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41E-0211-47CB-BEA2-8EF3CC04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CD2-5E3A-48B1-A2CD-EDADDF7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E4752-E256-441A-B2D4-E94ADBAD6C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