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93026"/>
        <c:axId val="34937535"/>
      </c:barChart>
      <c:catAx>
        <c:axId val="12993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7535"/>
        <c:crosses val="autoZero"/>
        <c:auto val="1"/>
        <c:lblAlgn val="ctr"/>
        <c:lblOffset val="100"/>
        <c:noMultiLvlLbl val="0"/>
      </c:catAx>
      <c:valAx>
        <c:axId val="34937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3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488-9809-4ACB-AE76-10996AF8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21F-D0F3-4E52-A06C-E9D290A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A78-72BB-4833-8E95-C1A09F86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344-EB35-41D0-9B0C-50E2C782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7EC-08E5-48FA-9A2D-AE69C4DB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897-D095-452D-9998-B8EAA3D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F1F-12BB-4618-9B9A-056D056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881-6CA8-4671-BCC4-677A4D67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8C9-69E4-4319-9F89-64E72D21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27D-700F-4774-B396-D169C7D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8B3-F234-47FC-AB32-085D206F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E55-314A-49DC-B2CF-57BDC41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91D6-3A54-40FF-B0F3-06A655CA4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