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15730"/>
        <c:axId val="36306419"/>
      </c:barChart>
      <c:catAx>
        <c:axId val="86315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06419"/>
        <c:crosses val="autoZero"/>
        <c:auto val="1"/>
        <c:lblAlgn val="ctr"/>
        <c:lblOffset val="100"/>
        <c:noMultiLvlLbl val="0"/>
      </c:catAx>
      <c:valAx>
        <c:axId val="36306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15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9A5-30AC-473C-8609-C590905C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9E4-4ABE-4A6D-ACC8-E327E2C5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F78-D522-4577-9287-D09EE0A2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69E-9997-4D17-917D-0BEFFA74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A36-DA66-4C6E-908E-90FDE81E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B4A-0202-4D81-B32C-B61E5B9B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952-3F3F-479B-835E-16611ABE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9A7-3885-4515-8935-D34251F9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757-8D60-47E0-90CB-468A6BEB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CFA-1619-4E10-BAD0-BA98215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512-C861-4FF8-85ED-DFB88141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EBA-A296-436E-8AB2-6062BC5B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283D0-1D3B-43C1-9E35-F652849E16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