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47998"/>
        <c:axId val="35393633"/>
      </c:barChart>
      <c:catAx>
        <c:axId val="90347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93633"/>
        <c:crosses val="autoZero"/>
        <c:auto val="1"/>
        <c:lblAlgn val="ctr"/>
        <c:lblOffset val="100"/>
        <c:noMultiLvlLbl val="0"/>
      </c:catAx>
      <c:valAx>
        <c:axId val="35393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47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83E2-7C26-4E12-84CE-7B5F73F4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64C6-3F96-4B04-97BC-9384B5B5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E2F7-BED0-48BD-AE5F-51BD6AA5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6CE-7139-4904-A0E4-3B24C92A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8FE-EA14-4F48-A70B-F5013A5F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375-1239-410A-A272-8BB11E76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C46A-B3CB-4918-A755-6C0F92DD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C9C-3D67-40ED-BA36-DE319E2E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8CE-67C1-49C2-831E-D1607E5A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1755-E9F8-461C-AF71-B1467770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4B8-62A3-4EFB-AD3B-50C575B0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A5F7-F7E3-4F07-95A1-C34C1657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AEB92-0B36-46AD-B306-8E43F9B8AE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