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935569"/>
        <c:axId val="98528421"/>
      </c:barChart>
      <c:catAx>
        <c:axId val="35935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28421"/>
        <c:crosses val="autoZero"/>
        <c:auto val="1"/>
        <c:lblAlgn val="ctr"/>
        <c:lblOffset val="100"/>
        <c:noMultiLvlLbl val="0"/>
      </c:catAx>
      <c:valAx>
        <c:axId val="98528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35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F51B-2EDE-47FB-9180-E2F63D97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B5C-0F98-45FB-B009-67A4CF78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DDE-C75C-4ECF-A611-B23B9ED9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775-2144-4B70-897F-CA9BD081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D762-BDA5-4C43-82B0-EE351F4A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6084-20F5-48EC-9017-5CFF383B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E926-18CD-4DB7-BD23-14948E53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436-4684-4EBF-8CA8-5F736563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6404-C99E-46EC-86C9-431956D1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A83-C7B5-4426-B35C-C732CBA3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C8EE-A190-446D-A3D4-74B9D750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DEE-6CDA-4D88-B15F-4ECA9CFA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387F7-218E-4414-9694-A4145114F9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