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6E1195-215B-4CA9-B26F-2EC94F1CCC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91C84ED-E526-492A-BA02-F2EE50E71FF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84EBBF2-6A4C-46CD-898A-E819F5EA142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56D4AFF-532B-4AD8-BA81-6AD77CC7CE8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4876666-79B9-4CD4-AB27-B1CD54F3059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EF6E2DF-5C3F-4028-881D-E4482418E92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08CFF00-5E03-4D73-AFF1-032B76B14C5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75812A2-CA7B-4931-A0F1-52A18DBA04F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21649D1-8E45-4E75-A4A8-7A3BBE2EFF6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25CDB31-0C92-4F2C-ABA4-09628CF633E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ADB19F8-073B-438A-92A0-1DC97A0AEE1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F1FE25A-C1AE-4713-8373-02F13D4FFC6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9C668A3-1357-459D-8CE5-AD5C7825C52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FDE5E56-CCAE-4C9A-AE27-B58A46274F6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6ED5799-CF87-4D9B-A441-07BAB6771E8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A7B1E72-28D7-4130-BF42-531F9A7B754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286C9B0-463C-417F-A0A7-D688BFAB9B3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4508B8E-004F-4FF5-92DC-8A6F24C623E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C630F7-0CF2-49B6-BAF1-F3649C8BF10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4B079FA-92E0-4974-987B-D1FD522744F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62DD876-7618-4471-BA33-B0AD9EA4777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30B8508-C546-4124-BA95-FED1B24957C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66E9E58-90B5-469D-96E2-C16B6E80946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161A7E1-FDF7-4FBF-9D1D-452FE3C7F58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63E98FB-3349-484B-BCCE-54018F8FEC1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289B49-8C22-43D0-9971-DDD71CF6292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BAB5D5-1712-443F-BEFE-F4DE677DAF8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3643B2D-ED6E-4487-AC44-F462F764047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65D475-069D-4503-BD24-C1309CCB0DD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F38D10-C1A0-4571-9767-5D7866C4756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38"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D6186F-4CBA-45C9-B7F4-4193316B482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84BC8C-85B1-470F-B084-F05054495C6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25AC4B7-E01C-4272-95B1-F7D9CE2FF37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35D165-04A3-402A-9B1B-CD9D3603A52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21B1B9-BCAB-49EB-9841-8B7EA80D838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493CC2-EF45-4BE4-B641-7AD7AA9E724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8B27C50-A313-4A36-92A7-48D66C3F40B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C3C116-B0C7-44A1-B47E-ECCFF81681D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32767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3981B9B-561B-418D-B02C-521FE58C7B0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DB9124-17D4-441B-B140-D7292D1A00A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76EB20-C039-4B7A-8431-60E074AE1BB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58"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4ECDEAE-88BD-43A8-B01B-4C210C77A99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0"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EA52E52-E0AC-4516-8550-386EB341900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2" name="PlaceHolder 2"/>
          <p:cNvSpPr>
            <a:spLocks noGrp="1"/>
          </p:cNvSpPr>
          <p:nvPr>
            <p:ph/>
          </p:nvPr>
        </p:nvSpPr>
        <p:spPr>
          <a:xfrm>
            <a:off x="457200" y="1600200"/>
            <a:ext cx="8229600" cy="46483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 the backgroun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Appender and RollingFileAppender allow for the same log file to be written to by instances located in different JVM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 in outgoing email</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B9081F-3CBF-42FB-B4AB-7E1EB374E49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6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successor of log4j.</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03CA3B-F0D8-4BE7-A558-55AAED4D06E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66"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138C7A-DB31-4352-8115-08E94F66E579}"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AFE3850-CB36-4190-BA3C-6018E34F001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26FBE4-CFE4-42B2-BBE5-F08A1E00CF1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4E6E7D-C13E-4A75-ABD8-BAD3AF64269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82B2C0-1A3B-468F-996E-385908CE546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DED1EF-AAE9-427C-9E0B-7A92E60B02A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6E76F2-627F-4799-AA68-B5FD44D4773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300313-F855-4EA5-B99C-39D01BC46A6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4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8-12-27T13:21:20Z</dcterms:modified>
  <cp:revision>172</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