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5898C-2DE9-46DC-9806-CADB6EF9E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8F38E-E023-4CB0-8B08-62846B28D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AE280-2685-4498-ACB1-C2FAC0CCB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54ADE-078D-44C4-8745-7E2926086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6216E-02D3-424B-94D6-B467B4EFC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8A462-5304-42F7-AF8F-EDA1414B4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C89ED-B6FB-46DE-8D32-D7DB34004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C4010-E8A4-4127-B487-89C95212C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505320" y="-360"/>
            <a:ext cx="5333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59BAA-5234-46E0-A456-3E923DD8A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F70DD-EF50-41D5-B28E-9750CF9AB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6F674-EB11-4EB0-AB2F-01D5B6C66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26B29-C3EB-4C52-8B35-38831F7FB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pt_backgr_04_details_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F2396-05AC-4159-A993-D7F0CB725350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pt_backgr_01_welkom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Onderwij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erugblik FP CK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Vooruitblik FP voor Informatic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elium opnemen in ID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Distributie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icenti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anneer openbaar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latform ondersteun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Taal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erator sect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dule syste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rrefutable patterns (~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ass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Onderzoek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ansformatie (A-termen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ooks” voor andere systeme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irectory structuu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terpret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le / direc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Koppeling met Jav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GU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662280" y="228600"/>
            <a:ext cx="5253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Wie doet Wat?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8T08:34:29Z</dcterms:created>
  <dc:creator>Arjan van IJzendoorn</dc:creator>
  <dc:description/>
  <dc:language>en-US</dc:language>
  <cp:lastModifiedBy>Arjan van IJzendoorn</cp:lastModifiedBy>
  <dcterms:modified xsi:type="dcterms:W3CDTF">2002-12-18T08:42:02Z</dcterms:modified>
  <cp:revision>6</cp:revision>
  <dc:subject/>
  <dc:title>Onderwijs</dc:title>
</cp:coreProperties>
</file>