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3366-1FDF-46E8-BFC8-DB14D9F41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FE3B-E1B1-455D-AD6C-FD6E05798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9C67-5F56-4E79-91C8-795C20FC8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B3B0-4C56-435B-8D10-DA95B4E7F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C6F2-16BD-48C2-B858-49471EC80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58E7-961F-45D1-9769-DE3FE2C75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6349-C7CE-4285-A15C-534676E51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994A-C2D6-4CFB-8F5E-8B2E3D466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505320" y="-360"/>
            <a:ext cx="5333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C1AD-AEE6-4872-9938-8AD9E02E6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F1DA-2121-4298-90F7-D31C05C07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D918-62F6-40C5-A1A7-C781BFBB3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056A-A192-419E-8AD9-015F52634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pt_backgr_04_details_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E76A2-33AA-4719-B18B-72A40E31021A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pt_backgr_01_welkom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Onderwij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rugblik FP CK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ooruitblik FP voor Informatic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elium opnemen in ID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Distributi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centi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anneer openbaar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tform ondersteu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Taal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sect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dule syste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rrefutable patterns (~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ass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Onderzoek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nsformatie (A-termen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ooks” voor andere system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rectory structuu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le / direc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Koppeling met Jav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U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662280" y="228600"/>
            <a:ext cx="5253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Wie doet Wat?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8T08:34:29Z</dcterms:created>
  <dc:creator>Arjan van IJzendoorn</dc:creator>
  <dc:description/>
  <dc:language>en-US</dc:language>
  <cp:lastModifiedBy>Arjan van IJzendoorn</cp:lastModifiedBy>
  <dcterms:modified xsi:type="dcterms:W3CDTF">2002-12-18T08:42:02Z</dcterms:modified>
  <cp:revision>6</cp:revision>
  <dc:subject/>
  <dc:title>Onderwijs</dc:title>
</cp:coreProperties>
</file>