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10073"/>
        <c:axId val="69568867"/>
      </c:barChart>
      <c:catAx>
        <c:axId val="92910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68867"/>
        <c:crosses val="autoZero"/>
        <c:auto val="1"/>
        <c:lblAlgn val="ctr"/>
        <c:lblOffset val="100"/>
        <c:noMultiLvlLbl val="0"/>
      </c:catAx>
      <c:valAx>
        <c:axId val="69568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10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2AE-5067-4A7F-8DC1-2D9D87F7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6E5-5CE3-4C0B-8E76-161EFB8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52D-7FAD-4EEB-9C21-CA5FD25A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568-D5A7-418B-86D1-0D76B8DF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E8D-6C86-4A15-9AE8-D947844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60E-FDF1-484D-BD5D-D72E526F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724-B321-4639-A0A1-0EE05BB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4D3-06CF-4702-9555-2757EC84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43B-470D-4824-B0D1-A704C389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8EE-9699-4071-A6E5-50A92C67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10B-79EE-40F9-B4CC-14C019D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587-8697-4C72-BB4A-DF20899F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64F40-5986-40A5-9448-7DDEE9F4E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