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53146"/>
        <c:axId val="87100003"/>
      </c:barChart>
      <c:catAx>
        <c:axId val="60253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00003"/>
        <c:crosses val="autoZero"/>
        <c:auto val="1"/>
        <c:lblAlgn val="ctr"/>
        <c:lblOffset val="100"/>
        <c:noMultiLvlLbl val="0"/>
      </c:catAx>
      <c:valAx>
        <c:axId val="87100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53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1F8-FEC6-4747-BB04-49990693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9DF-A251-4D65-8439-340C7F54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2A9-306F-4CE6-8531-125AD3B2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70C-AC34-4855-8C4C-A0373DC3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450-5DA7-48A5-AF20-646EC534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327-C486-4234-9979-655600E0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E18-6E34-423E-B61A-EB1D953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800-7FAC-494B-B275-8B467191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9F1-6A9D-4A67-885E-996E6E69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55B-4C44-4B43-8D04-7AA49BE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1F2-C769-41CC-B3D8-34769E8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4FC-C877-447D-8F5F-F719BDB5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64FB7-4478-4A9C-84E9-3BDB576BFD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