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46164"/>
        <c:axId val="84556848"/>
      </c:barChart>
      <c:catAx>
        <c:axId val="96346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56848"/>
        <c:crosses val="autoZero"/>
        <c:auto val="1"/>
        <c:lblAlgn val="ctr"/>
        <c:lblOffset val="100"/>
        <c:noMultiLvlLbl val="0"/>
      </c:catAx>
      <c:valAx>
        <c:axId val="84556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46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C148-DCF5-4975-BC9E-326F18A6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837-B19F-43E0-A0C5-3BA6B2E0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C61A-1588-4948-8D0E-35A1FE6C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CB9-F66E-4951-9CA7-017AC466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675D-1947-41F7-933F-69EC470E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51AE-FD08-4171-9432-AC23E49A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D98-2EAD-40DA-A977-B7DC587A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A751-4C81-43B8-8415-D04F6FDE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AEC4-8295-46D0-BB1C-6D163C60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58B-7598-4B13-86B9-C88B8E93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4CD5-9DC9-4CAC-9FB3-D0F0F43B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4B0-FF9C-4EEC-B148-0A825D77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CC797-FC57-4F9F-81A4-13BB6472A4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