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744768"/>
        <c:axId val="98876982"/>
      </c:barChart>
      <c:catAx>
        <c:axId val="41744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76982"/>
        <c:crosses val="autoZero"/>
        <c:auto val="1"/>
        <c:lblAlgn val="ctr"/>
        <c:lblOffset val="100"/>
        <c:noMultiLvlLbl val="0"/>
      </c:catAx>
      <c:valAx>
        <c:axId val="988769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44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767D-0904-4913-A61D-4FE202248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E3B6-214A-467D-81E0-0F497E0E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BC2D-21CF-4451-B93E-BD79DBF9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E652-84EB-4CF0-9553-FD4C7A76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CD64-8749-470D-BF36-7828C185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C9EB-8BE3-4F17-86C6-D3667F70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7564-3187-4886-B833-63580AF2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99DA-000B-48FE-8D47-7937E6DB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3D86-651D-4BD0-B514-63A8F774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D2BB-A699-4ACE-A842-535ABF11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3775-904D-46C6-8EC1-67B20232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1252-81AB-4C0B-AF32-755AB423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860BF-ED1A-4E3F-8D75-2DD18D11C6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