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899256"/>
        <c:axId val="63810957"/>
      </c:barChart>
      <c:catAx>
        <c:axId val="168992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10957"/>
        <c:crosses val="autoZero"/>
        <c:auto val="1"/>
        <c:lblAlgn val="ctr"/>
        <c:lblOffset val="100"/>
        <c:noMultiLvlLbl val="0"/>
      </c:catAx>
      <c:valAx>
        <c:axId val="638109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992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A87F-D399-4B3A-B922-6F9C47D1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BAB4-A761-4F64-9BBB-F606CB02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5835-0792-4566-81E5-C0A19425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C17F-C105-4B12-823C-A8E51D9A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C2A4-AFEC-42CD-AB81-20333B75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C4D4-269C-46F7-ACE1-38BC9678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7FA4-C0D8-415C-80B8-BF98D042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620E-3B62-4C2F-BCF1-037B4D95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B355-CF43-4FC6-BDB1-FB81BCEE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B6E5-80C8-461B-964E-B90A319D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A2EC-456A-4E54-95B2-AAB8F214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8C5D-78FC-4BE3-BC7D-943AF195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591D3-FCEF-411A-9208-14C21F64BB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